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6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1.xml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.xml"/><Relationship Id="rId8" Type="http://schemas.openxmlformats.org/officeDocument/2006/relationships/slide" Target="slide16.xml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6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4.xml"/><Relationship Id="rId3" Type="http://schemas.openxmlformats.org/officeDocument/2006/relationships/slide" Target="slide1.xml"/><Relationship Id="rId4" Type="http://schemas.openxmlformats.org/officeDocument/2006/relationships/slide" Target="slide16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9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1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1.xml"/><Relationship Id="rId4" Type="http://schemas.openxmlformats.org/officeDocument/2006/relationships/slide" Target="slide16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9.xml"/><Relationship Id="rId8" Type="http://schemas.openxmlformats.org/officeDocument/2006/relationships/slide" Target="slide20.xml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1.xml"/><Relationship Id="rId4" Type="http://schemas.openxmlformats.org/officeDocument/2006/relationships/slide" Target="slide16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9.xml"/><Relationship Id="rId8" Type="http://schemas.openxmlformats.org/officeDocument/2006/relationships/slide" Target="slide20.xml"/><Relationship Id="rId9" Type="http://schemas.openxmlformats.org/officeDocument/2006/relationships/slide" Target="slide21.xml"/><Relationship Id="rId10" Type="http://schemas.openxmlformats.org/officeDocument/2006/relationships/slide" Target="slide22.xml"/><Relationship Id="rId11" Type="http://schemas.openxmlformats.org/officeDocument/2006/relationships/slide" Target="slide22.xml"/><Relationship Id="rId1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6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6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" Target="slide27.xml"/><Relationship Id="rId5" Type="http://schemas.openxmlformats.org/officeDocument/2006/relationships/slide" Target="slide27.xml"/><Relationship Id="rId6" Type="http://schemas.openxmlformats.org/officeDocument/2006/relationships/slide" Target="slide1.xml"/><Relationship Id="rId7" Type="http://schemas.openxmlformats.org/officeDocument/2006/relationships/slide" Target="slide16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9.xml"/><Relationship Id="rId11" Type="http://schemas.openxmlformats.org/officeDocument/2006/relationships/slide" Target="slide24.xml"/><Relationship Id="rId1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1.xml"/><Relationship Id="rId3" Type="http://schemas.openxmlformats.org/officeDocument/2006/relationships/slide" Target="slide16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9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6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" Target="slide24.xml"/><Relationship Id="rId7" Type="http://schemas.openxmlformats.org/officeDocument/2006/relationships/slide" Target="slide25.xml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6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slide" Target="slide6.xml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8.xml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ok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generalisie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101" idx="3"/>
            <a:endCxn id="98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101" idx="3"/>
            <a:endCxn id="99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Ö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51400" y="5493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Ö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oplas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ok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eoplas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5" idx="3"/>
            <a:endCxn id="158" idx="1"/>
          </p:cNvCxnSpPr>
          <p:nvPr/>
        </p:nvCxnSpPr>
        <p:spPr>
          <a:xfrm flipV="1">
            <a:off x="3313080" y="3408120"/>
            <a:ext cx="2689920" cy="6732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59" name=""/>
          <p:cNvCxnSpPr>
            <a:stCxn id="155" idx="3"/>
            <a:endCxn id="15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60" name=""/>
          <p:cNvSpPr/>
          <p:nvPr/>
        </p:nvSpPr>
        <p:spPr>
          <a:xfrm>
            <a:off x="1103760" y="549360"/>
            <a:ext cx="74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Ödem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loka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Lymphabflussstörun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Lymphadenopath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Neoplas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12000" y="284652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generalisier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Neoplas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neralisier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oplas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3"/>
            <a:endCxn id="164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65" name=""/>
          <p:cNvSpPr/>
          <p:nvPr/>
        </p:nvSpPr>
        <p:spPr>
          <a:xfrm>
            <a:off x="1103040" y="549360"/>
            <a:ext cx="76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Ödem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loka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Lymphabflussstörun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Lymphadenopath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Neoplas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eneralisierte Neoplas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ympho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ok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oplas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7" idx="3"/>
            <a:endCxn id="169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70" name=""/>
          <p:cNvSpPr/>
          <p:nvPr/>
        </p:nvSpPr>
        <p:spPr>
          <a:xfrm>
            <a:off x="1103040" y="549360"/>
            <a:ext cx="76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Ödem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loka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Lymphabflussstörun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Lymphadenopath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Neoplas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okale Neoplas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etastas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efäß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ermeabilitä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72" idx="3"/>
            <a:endCxn id="174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75" name=""/>
          <p:cNvCxnSpPr>
            <a:stCxn id="172" idx="3"/>
            <a:endCxn id="176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ok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2520" y="549360"/>
            <a:ext cx="499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Ödem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loka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Störung der Gefäßpermeabilitä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4840" y="549360"/>
            <a:ext cx="66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Ödem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lokal &gt; Störung der Gefäßpermeabilität &gt; 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9" idx="3"/>
            <a:endCxn id="18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P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ishmani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6396840"/>
            <a:ext cx="30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P = feline infektiöse Peritoniti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86" idx="3"/>
            <a:endCxn id="187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drostatisch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ruck lokal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nenthromb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11240" y="549360"/>
            <a:ext cx="47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Ödem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loka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hydrostatischer Druck lokal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neralisie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90" idx="3"/>
            <a:endCxn id="192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93" name=""/>
          <p:cNvCxnSpPr>
            <a:stCxn id="190" idx="3"/>
            <a:endCxn id="194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95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generalisier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90" idx="3"/>
            <a:endCxn id="195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onkotischer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 So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ydrostatisch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Druck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09720" y="549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Ödem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generalisie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drostatisch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ruck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9" idx="3"/>
            <a:endCxn id="201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02" name=""/>
          <p:cNvCxnSpPr>
            <a:stCxn id="199" idx="3"/>
            <a:endCxn id="203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to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erz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18080" y="549360"/>
            <a:ext cx="49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Ödem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generalisier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hydrostatischer Druck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7" idx="3"/>
            <a:endCxn id="208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0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onkotischer So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86040" y="549360"/>
            <a:ext cx="43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Ödem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generalisier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onkotischer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 So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ypoalbum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214" idx="3"/>
            <a:endCxn id="211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93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15" name=""/>
          <p:cNvCxnSpPr>
            <a:stCxn id="214" idx="3"/>
            <a:endCxn id="212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93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16" name=""/>
          <p:cNvSpPr/>
          <p:nvPr/>
        </p:nvSpPr>
        <p:spPr>
          <a:xfrm>
            <a:off x="1058040" y="549360"/>
            <a:ext cx="64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Ödem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generalisier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onkotischer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 So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ypoalbum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album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ok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3"/>
            <a:endCxn id="107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8" name=""/>
          <p:cNvCxnSpPr>
            <a:stCxn id="105" idx="3"/>
            <a:endCxn id="109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0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drostatisch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ruck lokal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05" idx="3"/>
            <a:endCxn id="110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Gefäß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permeabilitä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Lymphabflus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76600" y="54936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Ödem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lok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ynthese 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er Leber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8" idx="3"/>
            <a:endCxn id="221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22" name=""/>
          <p:cNvCxnSpPr>
            <a:stCxn id="218" idx="3"/>
            <a:endCxn id="219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teinaufnahm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über die Nahr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nicht relevant be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leintier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57680" y="549360"/>
            <a:ext cx="66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Ödem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generalisier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onkotischer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 So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ypoalbum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nthese 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r Leber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eberfunktion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25" idx="3"/>
            <a:endCxn id="228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29" name=""/>
          <p:cNvCxnSpPr>
            <a:stCxn id="225" idx="3"/>
            <a:endCxn id="22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30" name=""/>
          <p:cNvSpPr/>
          <p:nvPr/>
        </p:nvSpPr>
        <p:spPr>
          <a:xfrm>
            <a:off x="1057680" y="549360"/>
            <a:ext cx="66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Ödem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generalisier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onkotischer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 So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ypoalbum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Bildun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ynthese in der Leber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Umgeh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Le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3" idx="3"/>
            <a:endCxn id="234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3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mgeh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rtosystemisch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un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680" y="549360"/>
            <a:ext cx="66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Ödem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generalisier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onkotischer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 So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ypoalbum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Bildun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ynthese in der Leber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Umgehung der Le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berfunktion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57680" y="549360"/>
            <a:ext cx="66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Ödem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generalisier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onkotischer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 So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ypoalbum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Bildun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ynthese in der Leber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Leberfunktions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37" idx="3"/>
            <a:endCxn id="24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berzirrh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bertumo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Lymphom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epatolipid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1640" y="639684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Gefäß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urchlässigkeit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Verlust ü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die 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43" idx="3"/>
            <a:endCxn id="244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47" name=""/>
          <p:cNvCxnSpPr>
            <a:stCxn id="243" idx="3"/>
            <a:endCxn id="245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48" name=""/>
          <p:cNvSpPr/>
          <p:nvPr/>
        </p:nvSpPr>
        <p:spPr>
          <a:xfrm>
            <a:off x="1089360" y="549360"/>
            <a:ext cx="74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Ödem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generalisier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onkotischer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 So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ypoalbum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stCxn id="251" idx="3"/>
            <a:endCxn id="252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5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efäß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durchlässigkeit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88640" y="549360"/>
            <a:ext cx="763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Ödem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generalisier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onkotischer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 So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ypoalbum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Verlust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Gefäßdurchlässigkeit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88640" y="549360"/>
            <a:ext cx="763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Ödem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generalisier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onkotischer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 So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ypoalbum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Verlust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Gefäßdurchlässigkeit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55" idx="3"/>
            <a:endCxn id="25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5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P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ishmani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0920" y="6396840"/>
            <a:ext cx="30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P = feline infektiöse Peritoniti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62" idx="3"/>
            <a:endCxn id="263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6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lust ü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e 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tein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83520" y="549360"/>
            <a:ext cx="784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Ödem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generalisier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onkotischer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 So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Hypoalbuminämie &gt; Verlust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Verlust über die 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neralisier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7360" y="549360"/>
            <a:ext cx="53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Ödem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generalisiert &gt; generalisierte 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6" idx="3"/>
            <a:endCxn id="26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6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IP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ishmani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0920" y="6396840"/>
            <a:ext cx="30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P = feline infektiöse Peritoniti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5" idx="3"/>
            <a:endCxn id="116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ymphabflus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2520" y="549360"/>
            <a:ext cx="39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Ödem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loka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Lymphabfluss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Lymphadenopath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70640" y="549360"/>
            <a:ext cx="61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Ödem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loka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Lymphabflussstörun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Lymphadenopath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Neoplas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22" idx="3"/>
            <a:endCxn id="123" idx="1"/>
          </p:cNvCxnSpPr>
          <p:nvPr/>
        </p:nvCxnSpPr>
        <p:spPr>
          <a:xfrm flipV="1">
            <a:off x="3313080" y="3408120"/>
            <a:ext cx="2689920" cy="673200"/>
          </a:xfrm>
          <a:prstGeom prst="bentConnector3">
            <a:avLst>
              <a:gd name="adj1" fmla="val 49993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4" name=""/>
          <p:cNvCxnSpPr>
            <a:stCxn id="122" idx="3"/>
            <a:endCxn id="120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93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6012000" y="284652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ymphadenopath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generalisier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Lymphaden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6" idx="3"/>
            <a:endCxn id="129" idx="1"/>
          </p:cNvCxnSpPr>
          <p:nvPr/>
        </p:nvCxnSpPr>
        <p:spPr>
          <a:xfrm flipV="1">
            <a:off x="3313080" y="3408120"/>
            <a:ext cx="2689920" cy="6732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0" name=""/>
          <p:cNvCxnSpPr>
            <a:stCxn id="126" idx="3"/>
            <a:endCxn id="127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1070280" y="549360"/>
            <a:ext cx="63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Ödem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loka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Lymphabflussstörun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Lymphadenopath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284652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Reaktion au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Entzündung 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tributären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 Gebie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Reaktion au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ntzündung 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tributären Gebie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21600" y="549360"/>
            <a:ext cx="665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Ödem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lokal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Lymphabflussstöru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Lymphadenopath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ntzündu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Reaktion auf Entzündung im tributären Gebie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3" idx="3"/>
            <a:endCxn id="13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tomat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hrombophlebiti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eneralisier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ymphaden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utoimmunkrankh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8" idx="3"/>
            <a:endCxn id="141" idx="1"/>
          </p:cNvCxnSpPr>
          <p:nvPr/>
        </p:nvCxnSpPr>
        <p:spPr>
          <a:xfrm flipV="1">
            <a:off x="3313080" y="3408120"/>
            <a:ext cx="2689920" cy="6732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2" name=""/>
          <p:cNvCxnSpPr>
            <a:stCxn id="138" idx="3"/>
            <a:endCxn id="139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1070280" y="549360"/>
            <a:ext cx="63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Ödem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lokal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Lymphabflussstöru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Lymphadenopath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Entzündu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generalisierte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Lymphaden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12000" y="284652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ystem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Infe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stem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fe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20240" y="549360"/>
            <a:ext cx="720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Ödem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lokal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Lymphabflussstöru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Lymphadenopath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ntzündu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generalisierte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Lymphadenitis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systemische Infe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5" idx="3"/>
            <a:endCxn id="14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ishman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eps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hrlichi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immunkrankh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19880" y="549360"/>
            <a:ext cx="710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Ödem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lokal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Lymphabflussstöru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Lymphadenopath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ntzündu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generalisierte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Lymphadenitis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Autoimmunkrankh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50" idx="3"/>
            <a:endCxn id="15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ystemisch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upus erythematode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Gregor und Steffi</cp:lastModifiedBy>
  <cp:lastPrinted>1999-05-13T12:26:48Z</cp:lastPrinted>
  <dcterms:modified xsi:type="dcterms:W3CDTF">2008-10-17T17:50:01Z</dcterms:modified>
  <cp:revision>328</cp:revision>
  <dc:subject/>
  <dc:title>Vorstellung einer Neuheit</dc:title>
</cp:coreProperties>
</file>